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E77-F292-42EB-BE04-79434278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C9F-414F-4F7C-B2BB-17F475B3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E4B-E4C8-4BA0-815E-F1A28DA6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1AA-DD74-4A12-9ECF-12CBB3F2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030E-CF14-4905-B743-65AB1784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D0B8-E03B-40A3-BC55-58C60043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546-8176-4554-8C4D-3A974DC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F11B-6C8E-457C-B35D-A8C1FDF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2F6-5A81-4A7A-9476-07ABD05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3D0-994B-4464-A2AB-36EF7B0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724-BA25-43AD-BA05-899958E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EEC-ADB0-4A48-A3C7-205BA1F7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8D3C-9316-47C7-AD1B-8B8AC441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E464-C47B-4E4C-8D12-7CD7503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34CD-4086-442B-AA43-AF627141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69A-80BB-410C-A867-2AD1304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561F-8631-49B1-85AA-EB99F89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666C-FD08-48B2-923B-6B8A7AD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6625-6EF3-4C8B-A3FA-018044A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6D60-82DB-46BF-84EB-6E68CFF6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BBBC-1935-44BA-8E37-CEAA2A3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6F72-8064-40B4-B505-0EA34E28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8D0-3E1E-495A-8A70-0CE7121C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2175D-9D01-43A8-81A4-EF18ADF1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28F4-C7AE-4FC9-A06B-BC2E2A0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59C9-37EE-4F4A-87DA-803EE4AC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ABBD-850F-4A31-A1F9-A2EC14F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42F5-0746-45AA-8DD0-28AB4007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7BEF-A89D-45C0-B2D4-F8B36BB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1FB9-C862-42E7-B20B-739E74A6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7C2E-7351-4195-8416-853E8138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C1C5-72D6-4A52-ADAB-643B2566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478E-2BF7-4089-80E5-01A1385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88F-FBEC-4195-9070-D39BA995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A273-BD55-41CA-91B4-A448622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CF1F-012B-4791-AEDB-26852A11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AFB2-4AB8-4BA5-B30F-A853A50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7BFE-C94E-4F10-B8EF-D17F6E2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720D4-8FF6-4D37-A524-F1A6A223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FDDD-0C54-428E-AA5D-0F1BC51E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A01A9-6548-4539-B76E-0A408A85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E41B-3DF6-4906-ADFD-D6FDC25F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DB82-0B55-45D4-8C04-4EB4B4F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68B-08FC-4B14-8676-9028E782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20F-7BAD-421D-8381-EFA29AE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735A-4AAA-4A1C-A197-A09093F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F56-69ED-41E9-80C4-3FAF1B9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77A-BF6B-4F46-A027-E89AD84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093-82E6-4D0A-91E6-A69DBF945FE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A83D-99CC-42C3-B64C-D1B88D37DB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4C70-750C-4E6D-9B96-3CA541DA93C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DD93-5A4B-4D7A-9AAA-FCC4E8452D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33440" y="1006560"/>
            <a:ext cx="7985160" cy="23590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2571840" y="4857840"/>
            <a:ext cx="6072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накова С.В. учитель начальных классов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ОУ «Сосновкая СОШ»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28760" y="285840"/>
            <a:ext cx="4857480" cy="30002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"/>
          <p:cNvPicPr/>
          <p:nvPr/>
        </p:nvPicPr>
        <p:blipFill>
          <a:blip r:embed="rId2"/>
          <a:stretch/>
        </p:blipFill>
        <p:spPr>
          <a:xfrm>
            <a:off x="3571920" y="335772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5537160" cy="29084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2"/>
          <a:stretch/>
        </p:blipFill>
        <p:spPr>
          <a:xfrm>
            <a:off x="3143160" y="3286080"/>
            <a:ext cx="5730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2"/>
          <p:cNvSpPr/>
          <p:nvPr/>
        </p:nvSpPr>
        <p:spPr>
          <a:xfrm>
            <a:off x="285840" y="-714240"/>
            <a:ext cx="864396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Учитель, являясь яркой творческой индивидуальностью, «помогает процессу осознания … своего личностного «Я» в окружающем мире. Он не даёт готового знания … вместе с воспитанниками спорит и размышляет… удивляется и сомневается, с интересом постигает истины в совместном творчеств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( В. М. Данильченко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79293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3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5010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572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 чём заключается роль учителя начальных классов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Задача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: воспитать не математиков, физиков или историков, а подготовить человека к жизни, в которой он сможет стать хорошим специалистом, хорошим сыном, хорошим отцом, хозяином своего дома, может быть, общественным деятелем, но главное – счастливым человеком, верящим в своё высокое предназнач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бования к личности учител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2500200" y="1714680"/>
            <a:ext cx="1965600" cy="8683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29000" y="4214880"/>
            <a:ext cx="1965240" cy="723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РИЖЁ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858000" y="1714680"/>
            <a:ext cx="1963800" cy="7254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3286080" y="2500200"/>
            <a:ext cx="194004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500200" y="3429000"/>
            <a:ext cx="1963800" cy="723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ЕСЕ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072040" y="3286080"/>
            <a:ext cx="199224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СТАВ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5786280" y="2500200"/>
            <a:ext cx="2033640" cy="669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С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6357960" y="4143240"/>
            <a:ext cx="2001960" cy="723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УДОЖ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2357280" y="5214960"/>
            <a:ext cx="2001960" cy="7239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ТНЁ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4714920" y="1714680"/>
            <a:ext cx="2001960" cy="7236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Т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5214960" y="5214960"/>
            <a:ext cx="2857320" cy="7858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ОМЫШЛЕН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Рисунок 15" descr=""/>
          <p:cNvPicPr/>
          <p:nvPr/>
        </p:nvPicPr>
        <p:blipFill>
          <a:blip r:embed="rId1"/>
          <a:srcRect l="19011" t="0" r="22080" b="0"/>
          <a:stretch/>
        </p:blipFill>
        <p:spPr>
          <a:xfrm>
            <a:off x="642960" y="1857240"/>
            <a:ext cx="164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2"/>
          <p:cNvSpPr/>
          <p:nvPr/>
        </p:nvSpPr>
        <p:spPr>
          <a:xfrm>
            <a:off x="571680" y="1643040"/>
            <a:ext cx="8215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04617b"/>
                </a:solidFill>
                <a:latin typeface="Times New Roman"/>
              </a:rPr>
              <a:t>В.А. Сластёнин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imes New Roman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04617b"/>
                </a:solidFill>
                <a:latin typeface="Times New Roman"/>
              </a:rPr>
              <a:t>К.Д. Ушински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"/>
          <p:cNvPicPr/>
          <p:nvPr/>
        </p:nvPicPr>
        <p:blipFill>
          <a:blip r:embed="rId2"/>
          <a:stretch/>
        </p:blipFill>
        <p:spPr>
          <a:xfrm>
            <a:off x="5286240" y="928800"/>
            <a:ext cx="3357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71424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4617b"/>
                </a:solidFill>
                <a:latin typeface="Constantia"/>
              </a:rPr>
              <a:t>Правила педагогического такта, наиболее важными из которых являются следующие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•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на уроке важно создавать атмосферу, в которой доминируют высокие общечеловеческие цен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•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учителю следует чувствовать внутреннее состояние ученика и создать все условия для вовлечения его в учебный процесс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•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при любых обстоятельствах нужно оставаться спокойным, уравновешенным, сдерживать негативные эмоци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•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любые противоречия желательно разрешать с помощью диалог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•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целесообразно быть щедрым на похвалу, а не на порицан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1:07:51Z</dcterms:created>
  <dc:creator>1</dc:creator>
  <dc:description/>
  <dc:language>en-US</dc:language>
  <cp:lastModifiedBy>BEN</cp:lastModifiedBy>
  <dcterms:modified xsi:type="dcterms:W3CDTF">2013-03-28T10:26:03Z</dcterms:modified>
  <cp:revision>211</cp:revision>
  <dc:subject/>
  <dc:title>Место дополнительного образования в реализации ФГОС общего образования третьего поколения</dc:title>
</cp:coreProperties>
</file>